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5F2-740D-4DDE-88B0-211A686C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CC0-A7B4-48E9-8293-D900190A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2D5-02D1-4582-A1BF-A067DA4D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40B-9DEE-451E-975D-D3919C75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D94-0BBD-425D-891F-0E18979E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D67-34C9-488F-8666-740D1F60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D0C-D3D9-489D-9A18-C34E037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FA8-74AF-46B5-9207-6AF9DDA6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F95-ECCA-4F31-9B7B-CBFBE847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4CB-E6BF-4F0A-9729-1104170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8CB-7F7A-4D3B-8C7D-82918939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641-9084-4776-8B35-396AD087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5604-522F-49BB-A389-1295DE03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backyard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paycheck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seashore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weekend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babysit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Arial"/>
              </a:rPr>
              <a:t>schoolyard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athtub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airplane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everythin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raindrop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lipstick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rowboat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7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1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nno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caught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8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2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4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nowflak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whatever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600" spc="-1" strike="noStrike">
                <a:solidFill>
                  <a:srgbClr val="000000"/>
                </a:solidFill>
                <a:latin typeface="Arial"/>
              </a:rPr>
              <a:t>believe</a:t>
            </a:r>
            <a:endParaRPr b="0" lang="en-US" sz="2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whol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rough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watched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700" spc="-1" strike="noStrike">
                <a:solidFill>
                  <a:srgbClr val="000000"/>
                </a:solidFill>
                <a:latin typeface="Arial"/>
              </a:rPr>
              <a:t>catch</a:t>
            </a:r>
            <a:endParaRPr b="0" lang="en-US" sz="2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800" spc="-1" strike="noStrike">
                <a:solidFill>
                  <a:srgbClr val="000000"/>
                </a:solidFill>
                <a:latin typeface="Arial"/>
              </a:rPr>
              <a:t>suntan</a:t>
            </a:r>
            <a:endParaRPr b="0" lang="en-US" sz="2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arfis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landlord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irthday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teacher</cp:lastModifiedBy>
  <dcterms:modified xsi:type="dcterms:W3CDTF">2010-11-14T02:27:54Z</dcterms:modified>
  <cp:revision>31</cp:revision>
  <dc:subject/>
  <dc:title>king</dc:title>
</cp:coreProperties>
</file>